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B71-C034-41A0-BAC9-139C2A38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9288-16A4-44E5-997E-958D5E6D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1C23-7F9E-4AA0-916E-8A93ED5F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A777-49C9-4433-8275-C8F0B0AA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6EB4-CCC9-41FC-AD64-392196B6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EED2-CE78-4F95-8ED3-344E04E5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8861-F6DC-42B4-BC78-BABC171F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EBDE-67A3-4EA0-BEAD-F75CF7E0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8BC6-9607-473A-9438-61995572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6B18-305E-4114-A62A-DAD3861D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05A4-9153-484C-8E04-D1AE8F40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B76-FF4A-41BF-826F-752471AC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E914-145F-4EAC-B6F4-D7774AF9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CD08-D597-407F-B0E9-AE9557B4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DC66-C9BD-4240-B122-22308B30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EA5E-C495-4390-BCD5-4D3D471D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2D57-6393-4963-88A4-0F8EDC76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5E6-3469-4C92-BCA0-E75CC85F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5B66-50CA-45BA-A8E4-C8450851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AF87-E237-4C71-A3B6-4D597AB8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E682-9E99-40F3-9FE7-D47D70D4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CD3F-CEA2-495E-96AE-51B2D43B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11F-F882-4275-9CDA-0EEA0BA5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BFD-3E8E-4841-A47E-71E40FCB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3E71-1EAB-4783-8074-0789681FC7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0DD1-D1C7-4685-B51B-94B62EFA71E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AP TEST REVIEW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English Language and Compositio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proach to MC S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easy questions immedia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more difficult questions, write in your book—mark eliminated cho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questions that you find very difficult—return after you have answered the following questions—they may help shed some light on previous questions that you had trouble wi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nt: if you can narrow the choices down to two– go ahead and gu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For the “uber-difficult” passages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ly, I like to read the passage quickly to get the main idea and then read it again annotating important points. Pay special attention to tone as you r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ANALYSIS ESSA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AP English Language Exam Requires the analysis of another author’s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PLE Analysis Ques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an author’s view on a specific 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rhetorical devices used by an author to achieve his or her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stylistic elements in a passage and their eff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the author’s tone and how the author conveys this t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AMPLE Analysis Questions Cont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/or contrast two passages with regard to style, purpose, or 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ze the author’s purpose and how he or she achieves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ze some of the ways an author recreates a real or imagined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ze how an author presents him or herself in the p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the intended and/or probable effect of a p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RHETORICAL STRATEGIES YOU MAY NEED TO ANALYZE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Structure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Comparison and contr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ause and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Class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924680" cy="808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ELEMENTS OF STYLE YOU MAY NEED TO ANALYZE (AKA STYLISTIC DEVICES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subject m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selection of det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point of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d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syn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att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ONNECTIVE TISSUE”—THIS IS FOR YOU—USE IT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tran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subject consis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tense consis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voice consis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v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pacing/ sentence var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ading the Prompt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 to spend 1-3 minutes carefully reading and deconstructing the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cle or underline the essential terms and elements in the prom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prompt requires more than one element, you must use more than on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 Want YOU to Do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N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your AP vo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home a review book and use it—go through a MC review section and a MC prac. test tonight—ALSO go over the analysis essay review section tonight and “virtually write” the analysis essays in the bo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MORROW n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your AP vo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the same as above for synthesis and argument essay s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eep and rel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733920" y="137160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one of those ideal situation type thing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ading the Passage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the passage absorbing the main i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ack and read the passage annotating prompt relative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osi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ew the prom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the elements that need to be included in your introduction: author, title, question elements, the elements that you plan to mention in your e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a graphic organizer and fill it out for the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you complete this—composition will be a bree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worry about a “catchy” opening thingy—get to the point and get out if nothing earth shattering immediately pops into your h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composition, mark the grid and intro. list and make sure that you haven’t left anything out of the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RNING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paraphrasing th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EXTUAL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ly analyze the textual evidence—make sure you use quotation marks and put the periods and commas inside!!! ARGHHH!!!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connective tissue and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y your syntax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P TERMS thoughtfully indicating that you really know what they mean—Remember the ughhhhhh example, “The author used diction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ARGUMENTATIVE ESSA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O THESE THREE THING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the nature of the position taken in the prom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a specific st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ly and logically support your cla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fter CAREFULLY Reading the Prompt– ask yourself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I think about this subject in the same way as the writer/ speaker?– AG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I think the writer/ speaker is totally wrong?– DISAG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I think some of what is said is correct and some incorrect?– QUALIF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—there are other words for “agree,” “refute,” “qualif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EXAMPLES OF GOOD EVIDENCE FOR YOU TO USE IN YOUR RESPONSE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ts/ 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o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ed defin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gnition of the op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ecdo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sts and compari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 and ef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al to autho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ading the Prompt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, think, read, th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some time to decide your position—you may not choose the side that first appeals to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some time to plan your support and weigh in the potential fallacies of your 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 grid for claim, data, warr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 strong claim for your 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forget to consider the thoughts and position of the opposing 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lassical Argumentative Schem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1: Introductory Paragra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atch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present the issue or topic with concrete image or anecd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provide any relevant background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define pertinent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state cla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lassical Argumentative Scheme Con’t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2: Concession and Ref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ignoring the other side is danger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erhaps find weaknesses within the opposing reasons, facts, testimonie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“yes,” is the concession; “but” is the ref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you still must demonstrate that your claims are more va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you may concede or refute in the introductory paragraph or through the body paragraphs as you bring up additional 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you should bring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pencils #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black pens—no white out allow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r something comfortable—and school appropriat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fast in your be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lassical Argumentative Scheme Con’t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3: Confirmation Para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the most important and longest section of the arg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rovides the reasons and the evidence of a writer’s cla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shows the logical development of the arg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should include both logical reasons and evidence but also emotional appeals to human needs or val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incorporate other modes of discourse to further develop your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lassical Argumentative Scheme Con’t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4: Concluding Paragra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wrap up the arg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restate the cla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provide a new appeal to needs or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nrich with additional commen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voice a final plea for readers to take action or to change 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refrain from repeating any inform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 am a little worried about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amples that some of you have used lately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SYNTHESIS ESSA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the Purpose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llege Board wants to determine that you ca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Read crit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Understand tex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nalyze tex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Develop a position on a given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upport a position on a given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upport a position with appropriate evidence from outside 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ncorporate outside sources into the text of the e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Cite sources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lements of the DR/CQ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fied defense/ refu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u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fied refutation/ reser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gerian approach/ argue for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rce Possibiliti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or seven doc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 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least one visual, non textual (charts, cartoons, tables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 and white p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sing views—dialec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invited to join the conver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member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your own thesis—thus showing a sense of in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choosing your view and using the sources to support that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er writers have a tendency to paraphrase and list—so, don’t do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t least three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e/ attribute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that the best writers create a dialectic– thus offering complexity– they do not simpl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ks to Peterson’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ive Steps to a F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iff’s A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tip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ganization of AP Language    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        and Composition Exam</a:t>
            </a:r>
            <a:br>
              <a:rPr sz="44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3 hours 15 minutes total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1. MC section  I hou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2. Essay  2 hours 15 minutes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ree types of essay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-analysis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-argument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-synthesi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181480" y="52578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You are responsible for dividing your time appropriat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MULTIPLE CHOIC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ultiple Choice Scor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righ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C section is 45% of your overall sc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pped items do not count for or against you--GU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ypes of Multiple Choice Question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raightforward qu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question that refers you to specific lines and asks you to draw a conclusion or to interpr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LL… EXCEPT qu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question that asks you to make an inference or to abstract a concept not directly stated in the p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“killer” Roman numeral qu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otnote qu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ecific Techniqu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of Eli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itution/ Fill-in the bl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uition/ The Educated Gu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estion Categori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 about rheto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 about the author’s meaning and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 about the main i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 about organization and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 about rhetorical mo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9:07:10Z</dcterms:created>
  <dc:creator>CLamar</dc:creator>
  <dc:description/>
  <dc:language>en-US</dc:language>
  <cp:lastModifiedBy>kschmidt</cp:lastModifiedBy>
  <dcterms:modified xsi:type="dcterms:W3CDTF">2011-05-09T16:52:06Z</dcterms:modified>
  <cp:revision>8</cp:revision>
  <dc:subject/>
  <dc:title>    Organization of AP Language              and Composition Exam 3 hours 15 minutes total  1. MC section  I hour  2. Essay  2 hours 15 minutes three types of essay -analysis -argument -synthesis</dc:title>
</cp:coreProperties>
</file>